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99E-182C-4454-8AEF-A4F107D6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FB0-E7AC-4B90-A430-C89DFAF6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CDD-020A-4AE2-BB75-1ED2FBD5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412-BD7F-4C81-BA90-749E59B3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FB95-8AE6-4C87-B493-81DCDD2A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BC5-FCCE-493D-839E-35E92DF0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3AF-F6EE-4F94-A6BE-FB5D358A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52E5-8D6D-48C0-BA35-C72B040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62D7-CED8-488E-A5BE-7894796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3D53-327C-4E8A-9FA8-B1F3FEC8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959-C129-4BE0-833B-A36CA99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2DB-CDE1-4E33-86A2-9EE21094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9BE-5913-4039-81B0-4356E7A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4E60-DA12-4C30-A298-FB86DDCA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F51-12AB-43D4-8A46-C5558DF7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562-C33A-4FCC-B52C-B4263BDF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0D9-0A1D-40CC-99FE-DD36D54D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0E65-A687-49AD-ABE5-B173F32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CEA1-6F73-49CF-8806-04D2036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AB19-2DA7-4414-85BF-98436F8D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7CC6-C7AE-4830-A5C8-6298229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8CE7-64B4-4CF1-A592-EB5E4D6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C11-C09F-41AD-9845-CE51231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8866-F40D-477D-BED1-4616E279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A057-BCE9-4CC9-A1B4-EBF2E78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850A-03BB-43DF-90BE-B5C8410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55C2-062E-499E-86B4-2F88FCA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6207-B5D5-4D52-BCBE-A11389E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FD539-D476-4733-BAC9-9D2F1C2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CFEC-27DC-45BD-B79D-492BAE17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387-0412-4042-B52B-B0B73AB5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112-B542-4F9C-A92C-51F6B4D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4240"/>
            <a:ext cx="733284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419-01CE-4F82-B84C-04FA2F3E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F96-02B3-4018-BB75-FF4B56F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20D-F20D-42EF-9458-1AAA16D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987-B51C-4379-8FC9-89EBDC0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06D3-9C4A-4EF7-A496-1B0B001AE6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948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90360" y="63565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9814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c6f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FF7-BD94-465F-9E6C-DB0D44D67C5D}" type="slidenum">
              <a:rPr b="0" lang="zh-CN" sz="1200" spc="-1" strike="noStrike">
                <a:solidFill>
                  <a:srgbClr val="6c6f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385c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08ca1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cb69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8ca1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1E35-31FA-45A4-AAE9-3CAACFAD5D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1280" y="1486080"/>
            <a:ext cx="43927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一个梦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唤醒</a:t>
            </a:r>
            <a:br>
              <a:rPr sz="4000"/>
            </a:b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771280" y="4005000"/>
            <a:ext cx="36594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8550"/>
                </a:solidFill>
                <a:latin typeface="楷体_GB2312"/>
                <a:ea typeface="楷体_GB2312"/>
              </a:rPr>
              <a:t>棠外附小  冯文</a:t>
            </a:r>
            <a:endParaRPr b="0" lang="en-US" sz="24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1440" y="117360"/>
            <a:ext cx="76309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无尽的梦</a:t>
            </a:r>
            <a:br>
              <a:rPr sz="2800"/>
            </a:b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</a:t>
            </a:r>
            <a:r>
              <a:rPr b="0" lang="zh-CN" sz="2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冯文</a:t>
            </a:r>
            <a:endParaRPr b="0" lang="en-US" sz="2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260360"/>
            <a:ext cx="829152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叶子的梦是一条小船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装满了它的奇思妙想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小溪推着它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鱼儿呵护它。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飘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一边想着，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  <a:p>
            <a:pPr marL="35712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飘到遥远的地方</a:t>
            </a:r>
            <a:r>
              <a:rPr b="0" lang="en-US" sz="28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28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幼圆"/>
                <a:ea typeface="楷体"/>
              </a:rPr>
              <a:t>合作创编儿童诗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480" y="1026720"/>
            <a:ext cx="8040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835360" y="130320"/>
            <a:ext cx="41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幼圆"/>
                <a:ea typeface="楷体"/>
              </a:rPr>
              <a:t>实现诗人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480" y="1375920"/>
            <a:ext cx="6340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385c"/>
                </a:solidFill>
                <a:latin typeface="幼圆"/>
              </a:rPr>
              <a:t>以“梦”为主题写一首儿童诗：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150920" y="2639880"/>
            <a:ext cx="5365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语言凝练，语句优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格式正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e5385c"/>
                </a:solidFill>
                <a:latin typeface="楷体"/>
                <a:ea typeface="楷体"/>
              </a:rPr>
              <a:t>书写美观、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1.倒映的彩色蜡笔画~雕塑" descr=""/>
          <p:cNvPicPr/>
          <p:nvPr/>
        </p:nvPicPr>
        <p:blipFill>
          <a:blip r:embed="rId1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6453360"/>
            <a:ext cx="360360" cy="50472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504720"/>
              <a:gd name="textAreaBottom" fmla="*/ 482400 h 504720"/>
            </a:gdLst>
            <a:ahLst/>
            <a:rect l="textAreaLeft" t="textAreaTop" r="textAreaRight" b="textAreaBottom"/>
            <a:pathLst>
              <a:path w="21600" h="30244">
                <a:moveTo>
                  <a:pt x="0" y="0"/>
                </a:moveTo>
                <a:lnTo>
                  <a:pt x="21600" y="0"/>
                </a:lnTo>
                <a:lnTo>
                  <a:pt x="21600" y="30244"/>
                </a:lnTo>
                <a:lnTo>
                  <a:pt x="0" y="30244"/>
                </a:lnTo>
                <a:close/>
              </a:path>
              <a:path fill="lightenLess" w="21600" h="3024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0244">
                <a:moveTo>
                  <a:pt x="21600" y="0"/>
                </a:moveTo>
                <a:lnTo>
                  <a:pt x="21600" y="30244"/>
                </a:lnTo>
                <a:lnTo>
                  <a:pt x="20250" y="28894"/>
                </a:lnTo>
                <a:lnTo>
                  <a:pt x="20250" y="1350"/>
                </a:lnTo>
                <a:close/>
              </a:path>
              <a:path fill="darkenLess" w="21600" h="30244">
                <a:moveTo>
                  <a:pt x="21600" y="30244"/>
                </a:moveTo>
                <a:lnTo>
                  <a:pt x="0" y="30244"/>
                </a:lnTo>
                <a:lnTo>
                  <a:pt x="1350" y="28894"/>
                </a:lnTo>
                <a:lnTo>
                  <a:pt x="20250" y="28894"/>
                </a:lnTo>
                <a:close/>
              </a:path>
              <a:path fill="lighten" w="21600" h="30244">
                <a:moveTo>
                  <a:pt x="0" y="30244"/>
                </a:moveTo>
                <a:lnTo>
                  <a:pt x="0" y="0"/>
                </a:lnTo>
                <a:lnTo>
                  <a:pt x="1350" y="1350"/>
                </a:lnTo>
                <a:lnTo>
                  <a:pt x="1350" y="28894"/>
                </a:lnTo>
                <a:close/>
              </a:path>
              <a:path fill="darken" w="21600" h="30244">
                <a:moveTo>
                  <a:pt x="14318" y="15122"/>
                </a:moveTo>
                <a:lnTo>
                  <a:pt x="3756" y="22166"/>
                </a:lnTo>
                <a:lnTo>
                  <a:pt x="3756" y="8078"/>
                </a:lnTo>
                <a:close/>
              </a:path>
              <a:path fill="darken" w="21600" h="30244">
                <a:moveTo>
                  <a:pt x="16173" y="8078"/>
                </a:moveTo>
                <a:lnTo>
                  <a:pt x="16173" y="22166"/>
                </a:lnTo>
                <a:lnTo>
                  <a:pt x="17844" y="22166"/>
                </a:lnTo>
                <a:lnTo>
                  <a:pt x="17844" y="8078"/>
                </a:lnTo>
                <a:close/>
              </a:path>
            </a:pathLst>
          </a:custGeom>
          <a:solidFill>
            <a:srgbClr val="f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7274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-88920"/>
            <a:ext cx="9144000" cy="6959520"/>
          </a:xfrm>
          <a:prstGeom prst="rect">
            <a:avLst/>
          </a:prstGeom>
          <a:solidFill>
            <a:srgbClr val="e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4"/>
          <p:cNvSpPr/>
          <p:nvPr/>
        </p:nvSpPr>
        <p:spPr>
          <a:xfrm rot="9523800">
            <a:off x="381312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1927080" y="313200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THANKS TO 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1927080" y="3701880"/>
            <a:ext cx="52898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谢谢大家聆听</a:t>
            </a: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213660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40687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436572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4662360" y="5105520"/>
            <a:ext cx="1159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22"/>
          <p:cNvSpPr/>
          <p:nvPr/>
        </p:nvSpPr>
        <p:spPr>
          <a:xfrm>
            <a:off x="495792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3860640" y="1079640"/>
            <a:ext cx="142272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674280" y="333360"/>
            <a:ext cx="729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段想象惊艳另一段想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"/>
          <p:cNvSpPr/>
          <p:nvPr/>
        </p:nvSpPr>
        <p:spPr>
          <a:xfrm>
            <a:off x="7588080" y="2492280"/>
            <a:ext cx="729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个梦唤醒另一个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29" name="Picture 4" descr="u=4233926744,4122306700&amp;fm=21&amp;gp=0"/>
          <p:cNvPicPr/>
          <p:nvPr/>
        </p:nvPicPr>
        <p:blipFill>
          <a:blip r:embed="rId1"/>
          <a:stretch/>
        </p:blipFill>
        <p:spPr>
          <a:xfrm>
            <a:off x="36360" y="-98280"/>
            <a:ext cx="9107640" cy="698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008122143538233_1"/>
          <p:cNvPicPr/>
          <p:nvPr/>
        </p:nvPicPr>
        <p:blipFill>
          <a:blip r:embed="rId2"/>
          <a:stretch/>
        </p:blipFill>
        <p:spPr>
          <a:xfrm>
            <a:off x="4068720" y="5229360"/>
            <a:ext cx="1906560" cy="18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608733_131207080000_2"/>
          <p:cNvPicPr/>
          <p:nvPr/>
        </p:nvPicPr>
        <p:blipFill>
          <a:blip r:embed="rId3"/>
          <a:stretch/>
        </p:blipFill>
        <p:spPr>
          <a:xfrm>
            <a:off x="971640" y="5373720"/>
            <a:ext cx="12952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3635280" y="24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线条的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32N9B05H0-25052"/>
          <p:cNvPicPr/>
          <p:nvPr/>
        </p:nvPicPr>
        <p:blipFill>
          <a:blip r:embed="rId4"/>
          <a:stretch/>
        </p:blipFill>
        <p:spPr>
          <a:xfrm>
            <a:off x="6661080" y="4005360"/>
            <a:ext cx="2374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385c"/>
                </a:solidFill>
                <a:latin typeface="楷体_GB2312"/>
                <a:ea typeface="楷体_GB2312"/>
              </a:rPr>
              <a:t>一个梦唤醒另一个梦</a:t>
            </a:r>
            <a:endParaRPr b="0" lang="en-US" sz="40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63640" y="1844280"/>
            <a:ext cx="280836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谁？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  <a:p>
            <a:pPr marL="2282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40422"/>
                </a:solidFill>
                <a:latin typeface="幼圆"/>
                <a:ea typeface="楷体_GB2312"/>
              </a:rPr>
              <a:t>……</a:t>
            </a:r>
            <a:endParaRPr b="0" lang="en-US" sz="6000" spc="-1" strike="noStrike">
              <a:solidFill>
                <a:srgbClr val="f08ca1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想象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08ca1"/>
              </a:solidFill>
              <a:latin typeface="幼圆"/>
            </a:endParaRPr>
          </a:p>
        </p:txBody>
      </p:sp>
      <p:pic>
        <p:nvPicPr>
          <p:cNvPr id="140" name="Picture 4" descr="a0001673570"/>
          <p:cNvPicPr/>
          <p:nvPr/>
        </p:nvPicPr>
        <p:blipFill>
          <a:blip r:embed="rId1"/>
          <a:stretch/>
        </p:blipFill>
        <p:spPr>
          <a:xfrm>
            <a:off x="34920" y="-98280"/>
            <a:ext cx="571644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300000342079125249730752658"/>
          <p:cNvPicPr/>
          <p:nvPr/>
        </p:nvPicPr>
        <p:blipFill>
          <a:blip r:embed="rId2"/>
          <a:stretch/>
        </p:blipFill>
        <p:spPr>
          <a:xfrm>
            <a:off x="5651640" y="2781360"/>
            <a:ext cx="2952720" cy="3386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12000" y="2205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谢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尔弗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0160" y="-385920"/>
            <a:ext cx="784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冰冻的梦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谢尔</a:t>
            </a:r>
            <a:r>
              <a:rPr b="1" lang="zh-CN" sz="3200" spc="-1" strike="noStrike">
                <a:solidFill>
                  <a:srgbClr val="940422"/>
                </a:solidFill>
                <a:latin typeface="楷体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940422"/>
                </a:solidFill>
                <a:latin typeface="楷体_GB2312"/>
                <a:ea typeface="楷体_GB2312"/>
              </a:rPr>
              <a:t>希尔弗斯坦</a:t>
            </a:r>
            <a:endParaRPr b="0" lang="en-US" sz="32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 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656880" y="183996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要把昨天我做的梦，拿到冰箱里冷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到遥远的一天，我变成了白发苍苍的老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我就把这个可爱的美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拿出来解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然后把它煮沸，坐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40422"/>
                </a:solidFill>
                <a:latin typeface="Arial"/>
                <a:ea typeface="楷体_GB2312"/>
              </a:rPr>
              <a:t>浸暖冰冷的双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1957320"/>
            <a:ext cx="439272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40422"/>
                </a:solidFill>
                <a:latin typeface="幼圆"/>
                <a:ea typeface="楷体_GB2312"/>
              </a:rPr>
              <a:t>合理</a:t>
            </a:r>
            <a:endParaRPr b="0" lang="en-US" sz="48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49680" y="3986280"/>
            <a:ext cx="36590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a855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81080" y="1057320"/>
            <a:ext cx="206388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梦</a:t>
            </a:r>
            <a:endParaRPr b="0" lang="en-US" sz="4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411280" y="2421000"/>
            <a:ext cx="5400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幼圆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940422"/>
                </a:solidFill>
                <a:latin typeface="幼圆"/>
                <a:ea typeface="楷体"/>
              </a:rPr>
              <a:t>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076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40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40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4240"/>
            <a:ext cx="7332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385c"/>
                </a:solidFill>
                <a:latin typeface="楷体_GB2312"/>
                <a:ea typeface="楷体"/>
              </a:rPr>
              <a:t>一个梦唤醒另一个梦</a:t>
            </a:r>
            <a:endParaRPr b="0" lang="en-US" sz="4400" spc="-1" strike="noStrike">
              <a:solidFill>
                <a:srgbClr val="e5385c"/>
              </a:solidFill>
              <a:latin typeface="幼圆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8ca1"/>
                </a:solidFill>
                <a:latin typeface="幼圆"/>
              </a:rPr>
              <a:t> </a:t>
            </a:r>
            <a:endParaRPr b="0" lang="en-US" sz="2000" spc="-1" strike="noStrike">
              <a:solidFill>
                <a:srgbClr val="f08ca1"/>
              </a:solidFill>
              <a:latin typeface="幼圆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2538360"/>
            <a:ext cx="58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的梦是调皮的音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4073400"/>
            <a:ext cx="58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叶子的梦是一条小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13413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的梦是</a:t>
            </a:r>
            <a:r>
              <a:rPr b="0" lang="zh-CN" sz="2800" spc="-1" strike="noStrike" u="sng">
                <a:solidFill>
                  <a:srgbClr val="940422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2800" spc="-1" strike="noStrike">
                <a:solidFill>
                  <a:srgbClr val="940422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2:18:08Z</dcterms:created>
  <dc:creator>Administrator</dc:creator>
  <dc:description/>
  <dc:language>en-US</dc:language>
  <cp:lastModifiedBy>tw</cp:lastModifiedBy>
  <dcterms:modified xsi:type="dcterms:W3CDTF">2015-10-19T17:15:10Z</dcterms:modified>
  <cp:revision>10</cp:revision>
  <dc:subject/>
  <dc:title>一个梦 唤醒 另一个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